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29DC-2A1C-4E74-9F50-CAC35FB37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8C57-D7AC-44E2-A321-1AF01BCA6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D4BD-1EE4-4CCF-80EF-090F21CA1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ECD0-2FE4-4FFE-81B2-8B4543CE7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0B79-DCC8-4459-B445-D129E62AC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C329-1DCF-4533-A0FD-622C322EA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50AF-08E4-4922-AB32-598C25173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6DC4-DB3B-40CB-B016-1669CA4DE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285A-401F-4509-9D72-8F3D8D1AE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EB5E-7607-4F8A-950D-583DAF363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E221-8C54-412A-97BD-B2CA61210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AC7B-3176-4AEA-A880-880281F40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C0AFC-EA95-4A23-AC7B-2A3BE90BDD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0760" cy="685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edit" descr=""/>
          <p:cNvPicPr/>
          <p:nvPr/>
        </p:nvPicPr>
        <p:blipFill>
          <a:blip r:embed="rId1"/>
          <a:stretch/>
        </p:blipFill>
        <p:spPr>
          <a:xfrm>
            <a:off x="0" y="0"/>
            <a:ext cx="91407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0760" cy="685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0760" cy="685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0760" cy="685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0760" cy="685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0760" cy="685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0760" cy="685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9T05:50:04Z</dcterms:created>
  <dc:creator>Michal.Holliday</dc:creator>
  <dc:description/>
  <dc:language>en-US</dc:language>
  <cp:lastModifiedBy>Michal.Holliday</cp:lastModifiedBy>
  <dcterms:modified xsi:type="dcterms:W3CDTF">2001-04-19T06:02:00Z</dcterms:modified>
  <cp:revision>2</cp:revision>
  <dc:subject/>
  <dc:title>PowerPoint Presentation</dc:title>
</cp:coreProperties>
</file>